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850-7FC2-450F-9C55-B05D9109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A14-A4AF-4103-A534-EFDD73A6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6D1-7B00-4F1D-8BC9-C04E8032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D56-0EE2-42D0-AE07-F330100B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217C-0151-4A6C-9D9C-9401F870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63C9-5440-496D-A5BE-B016AB2D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6F28-AF2B-479D-91F5-4E8EF9DF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97F1-7D91-44F0-B6CC-2CA997FE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4992-3865-41CF-A978-E4BDC50F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2371-79FE-498A-B357-A0D7496F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67B5-C061-42FB-9525-580710DD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E0B-228F-4268-990B-EFFA7E44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FA60-9049-448E-9E88-099A78D4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D091-FC7F-4DF5-A7FC-31C552F5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4ACE-6F18-451E-883F-E69FDA0A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F40D-5261-4E13-873A-47253FA8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8483-0EC1-483C-B1E8-1D435313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F95-DA9B-4B9E-BDB8-3D884964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E17-448D-4CC7-88BA-B848833D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C80E-28BE-4DB2-9F30-649F0318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3D8-2E63-4C3B-9298-434C9CCA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E32-1BA5-4D37-9AF2-29834396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E23-95A6-4372-AE12-D57E6132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7F8-3952-4908-8308-6F5BC35A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9E11-8CB1-43B3-B647-2CF94A8C051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EE49-0A1A-4F6E-9899-61681ABAB0B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Me llamo __________   </a:t>
            </a: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Clase 702</a:t>
            </a:r>
            <a:br>
              <a:rPr sz="3200"/>
            </a:b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La fecha es el 29 de febrero del 2016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991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Propósito # 50: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omprendes los verbos de cambio radic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7030a0"/>
                </a:solidFill>
                <a:latin typeface="Verdana"/>
              </a:rPr>
              <a:t>L.O.- to review stem-changing verb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ga los verbos de cambio rad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2971800"/>
          <a:ext cx="8381880" cy="1482840"/>
        </p:xfrm>
        <a:graphic>
          <a:graphicData uri="http://schemas.openxmlformats.org/drawingml/2006/table">
            <a:tbl>
              <a:tblPr/>
              <a:tblGrid>
                <a:gridCol w="1422360"/>
                <a:gridCol w="2463840"/>
                <a:gridCol w="1981080"/>
                <a:gridCol w="2514600"/>
              </a:tblGrid>
              <a:tr h="40284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nsar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to th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33520" y="4765680"/>
          <a:ext cx="8381880" cy="1482840"/>
        </p:xfrm>
        <a:graphic>
          <a:graphicData uri="http://schemas.openxmlformats.org/drawingml/2006/table">
            <a:tbl>
              <a:tblPr/>
              <a:tblGrid>
                <a:gridCol w="1422360"/>
                <a:gridCol w="2463840"/>
                <a:gridCol w="1981080"/>
                <a:gridCol w="2514600"/>
              </a:tblGrid>
              <a:tr h="40284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ntir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to li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9"/>
          <p:cNvSpPr/>
          <p:nvPr/>
        </p:nvSpPr>
        <p:spPr>
          <a:xfrm>
            <a:off x="6546960" y="3666960"/>
            <a:ext cx="24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7030a0"/>
                </a:solidFill>
                <a:latin typeface="Arial"/>
              </a:rPr>
              <a:t>pensá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629400" y="5419800"/>
            <a:ext cx="24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7030a0"/>
                </a:solidFill>
                <a:latin typeface="Arial"/>
              </a:rPr>
              <a:t>mentí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Ejercicio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955800"/>
            <a:ext cx="861048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jercicio 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. 17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a p. 5.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y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Quiz 3: Capitulo 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URSDA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M-changing verbs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380880" y="26668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area # 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0:31:41Z</dcterms:created>
  <dc:creator>Helen Zumaeta</dc:creator>
  <dc:description/>
  <dc:language>en-US</dc:language>
  <cp:lastModifiedBy>Helen Zumaeta</cp:lastModifiedBy>
  <cp:lastPrinted>2016-02-24T19:02:17Z</cp:lastPrinted>
  <dcterms:modified xsi:type="dcterms:W3CDTF">2016-02-29T18:48:20Z</dcterms:modified>
  <cp:revision>46</cp:revision>
  <dc:subject/>
  <dc:title>Me llamo __________   Clase 7IM La fecha es el 2 de diciembre del 2010</dc:title>
</cp:coreProperties>
</file>